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24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25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0CAA-1B2D-4655-8B43-9AC1841227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3D40-1880-4342-9BBC-886D3CF619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M 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ward Capacity Allocation 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ing 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3A41-14A8-488F-9A63-BF849CED8F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 for Gene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s on technical requirements mostly relate to voltage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omments on regulatory aspects, derogation process and c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and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concerns raised are about scope and c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oncerns raised on technical requirements – currently consid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V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ct main issues to revolve around common provisions across all codes, although recognise stakeholders have raised some additional technical com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E9EB-FE10-4F59-A72B-9DA72F905D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6D15-3670-4988-B965-B032F592C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463-9C13-49CF-82B8-D69DA13C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61B-771D-4879-9C81-B7807D30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FE7-A366-4E2F-BECF-85D2FDA1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AED-1765-438D-A51A-B0AAD43D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6C02-44AC-436A-BE7F-7C627554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FF5F-E8B0-4C81-81AC-2D461A9C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7D27-BCF0-4A88-BAB0-64A6A50D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A0E2-660B-40D9-8833-9112F6FB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C5C4-9FFC-49F5-A9AA-10AC1FA3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7E9A-EDF7-4D9A-A79B-BC0F95AD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0434-86BF-4466-8783-2E46D3F2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E13-55B7-4876-B40D-4E593C5D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E30A-1433-4DF9-BAFE-47FEB048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ED1A-4E05-46EE-A53F-52F9EB70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3851-89D4-4C9C-850E-BF4B0592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904E-6445-4A71-A75F-407DC19B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11A0-9B3F-4F0F-9C04-4B640B86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BE1FD-F206-4925-9991-1F7A5270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C121-41B7-4DCB-8E6D-98FBC4B6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FF3E2-84A7-4194-B6D6-F3773284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C762-18C0-4E74-B89C-8E786D4A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A41A-533E-4259-8607-95465608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729-9ECB-44EF-B8E7-B1C7CF1C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6381-1576-41AD-9306-4AF227AD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70A4-8AB6-49D6-9A65-3337C81F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F797-D4D6-43C8-B438-9F7E0BB0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5131-7985-403A-B46D-DCA7DCB7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1F20-7F8B-40DD-A55B-BB2E328D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0849-912E-49E1-900B-FC689656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16D71-5BA9-4E27-81A9-50BDC934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F0424-9C1F-412C-99CE-5EA721DE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368B3-4903-4C0A-BA7D-DD25B266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DC6CB-DA20-4CEC-BE77-23AC6AD7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32E-4CA0-422E-A44B-AB8EF324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14BBD-0C64-4A02-BDBB-30E62D26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37A7C-BEB5-48CB-A020-402B467B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A196A-4A7F-4E4A-ACBE-626E77D8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A5F8-D9A3-4E43-A27E-120BCDA3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1A683-B3F6-42C2-A8F3-A80AD332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13523-A5E7-46F5-ADE6-1242F513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26E2D-093C-42B1-8413-D0A4EBF9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E121-51A8-4B15-BB2C-61C8C5AC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5C1E-082B-45EC-84B6-6140C9CB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993C9-2C3E-49E1-BAAC-7E84EE91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755-4F10-46A7-AF94-A724A53A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27397-28C4-439E-83AC-4552DF64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CE8C7-4333-4658-8390-C50C823C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F1065-BD2A-43B5-B23A-21708C70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57A82-C969-4EFA-A844-B2A07049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6232C-2E7C-4045-ABD7-9345E103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4D319-0BB7-4AD0-9087-053E45D5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71ADA-F1ED-4894-8F15-E7BDF9D8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8C5E4-C5D7-4FC0-920B-AB248CCD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208C2-D20E-43D4-9D6C-44AFE473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50F10-F4B4-447F-A86F-4A585CAA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08C-6B3F-45EB-A5D2-C3BF1155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668E8-3A66-470B-AEC6-E745C63E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5BD1ED-B010-4CE4-A177-D2D495A45C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800A35-BA02-4309-95AD-13F78F1BF0A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5BF089-D70A-49FA-B917-C273D75EDBC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9B02C6-41DA-4561-8D54-549A53D396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5002B6-2832-4249-8524-2DDED071059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99D34C-869B-47A4-8B8A-034001E7B55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14712F-99E7-47EF-AE12-DFF0B2EB06B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97F0C2-7E94-4A78-A820-86E75AF01CC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F76D94-FA23-4E66-B102-0B975C0BA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094-AB5A-47D3-8D86-91DBBD03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DCD073-2936-446F-92A5-D8BB319031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162642-C9AC-410A-8655-C4058CD11CE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7D1225-75D2-4DBC-B546-D9FF3BF42B5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D028A4-2B86-40AE-AC41-31DAEFB6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E9865D-4575-41D3-967D-CF680B0C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CA8813-F0C1-4DCC-BD2E-8B5D7A60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6F1F8E-1A2D-4516-9EF2-9AA7DFB5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E080DD-FA1D-40F7-9AE2-E565F4E4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9B4DAE-0349-4135-9E14-9BC84835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2BC503-D3E9-4441-A3FC-9CC2D983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07B-1C7F-463C-B0F2-411A8939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AE229B-551A-4E1E-96A8-54A0C116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C004E8-1A4D-4094-8C00-BE492213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BD1763-A7A5-41AA-9366-61BD485A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B89682-A41D-4B22-B85C-1C7316F1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5C3DF1-03F7-4BED-A308-0E49FE9F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C2DA38-828A-4FD1-8CF2-B9D33731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1E917C-671B-4612-9120-BD077815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927B31-C2DE-49F3-9AFA-6A357A14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91D67A-E965-48B6-9B39-91AE2D3B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691DC5-2ED7-4587-8C7E-E82E937A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A77-817B-4ABE-A1ED-BB4D88C0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734937-D824-4C95-9E06-E24161F6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B203C0-26E7-46CB-A243-F3B02544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CC7E43-5368-4547-8494-BF51201B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A0B88F-7D9E-4897-ABB2-A2E6595B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13A55F-94C5-4D88-9855-D593747A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D1471C-09DC-40E9-A12F-3A739B70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9342B0-D282-4F43-A46C-1EAADAD0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4207-65A1-4EE8-B0CE-A8F77D54C9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" name="Picture 9" descr="LOGO CE_Vertical_EN_NEG_quadri_HR"/>
          <p:cNvPicPr/>
          <p:nvPr/>
        </p:nvPicPr>
        <p:blipFill>
          <a:blip r:embed="rId2"/>
          <a:srcRect l="0" t="0" r="0" b="6621"/>
          <a:stretch/>
        </p:blipFill>
        <p:spPr>
          <a:xfrm>
            <a:off x="3963960" y="258840"/>
            <a:ext cx="1436760" cy="9381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0"/>
          <p:cNvSpPr/>
          <p:nvPr/>
        </p:nvSpPr>
        <p:spPr>
          <a:xfrm>
            <a:off x="-181080" y="-531720"/>
            <a:ext cx="158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1042920" y="-53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Line 27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2775-DF47-44B9-8C4B-A16147FE51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-181080" y="-531720"/>
            <a:ext cx="158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042920" y="-53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" name="Picture 15" descr="LOGO CE_Vertical_EN_NEG_quadri_HR"/>
          <p:cNvPicPr/>
          <p:nvPr/>
        </p:nvPicPr>
        <p:blipFill>
          <a:blip r:embed="rId2"/>
          <a:srcRect l="0" t="0" r="0" b="6621"/>
          <a:stretch/>
        </p:blipFill>
        <p:spPr>
          <a:xfrm>
            <a:off x="3963960" y="258840"/>
            <a:ext cx="1436760" cy="938160"/>
          </a:xfrm>
          <a:prstGeom prst="rect">
            <a:avLst/>
          </a:prstGeom>
          <a:ln w="0">
            <a:noFill/>
          </a:ln>
        </p:spPr>
      </p:pic>
      <p:sp>
        <p:nvSpPr>
          <p:cNvPr id="52" name="Line 16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5000-C309-4741-A3DE-74AEC8807E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-181080" y="-531720"/>
            <a:ext cx="158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1042920" y="-53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2542-D75A-43E2-BD57-781F0CE8570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-181080" y="-531720"/>
            <a:ext cx="158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042920" y="-53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7" name="Picture 15" descr="LOGO CE_Vertical_EN_NEG_quadri_HR"/>
          <p:cNvPicPr/>
          <p:nvPr/>
        </p:nvPicPr>
        <p:blipFill>
          <a:blip r:embed="rId2"/>
          <a:srcRect l="0" t="0" r="0" b="6621"/>
          <a:stretch/>
        </p:blipFill>
        <p:spPr>
          <a:xfrm>
            <a:off x="3963960" y="258840"/>
            <a:ext cx="1436760" cy="938160"/>
          </a:xfrm>
          <a:prstGeom prst="rect">
            <a:avLst/>
          </a:prstGeom>
          <a:ln w="0">
            <a:noFill/>
          </a:ln>
        </p:spPr>
      </p:pic>
      <p:sp>
        <p:nvSpPr>
          <p:cNvPr id="138" name="Line 16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nergy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7" name="Picture 6" descr="LOGO CE-EN-quadri.eps"/>
          <p:cNvPicPr/>
          <p:nvPr/>
        </p:nvPicPr>
        <p:blipFill>
          <a:blip r:embed="rId2"/>
          <a:srcRect l="0" t="0" r="0" b="3504"/>
          <a:stretch/>
        </p:blipFill>
        <p:spPr>
          <a:xfrm>
            <a:off x="3968640" y="258840"/>
            <a:ext cx="1436760" cy="963360"/>
          </a:xfrm>
          <a:prstGeom prst="rect">
            <a:avLst/>
          </a:prstGeom>
          <a:ln w="0">
            <a:noFill/>
          </a:ln>
        </p:spPr>
      </p:pic>
      <p:sp>
        <p:nvSpPr>
          <p:cNvPr id="178" name="Line 9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AEBA-18BA-4739-B282-30F24CA0E36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hape 9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Shape 10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1" name="LOGO CE_Vertical_EN_NEG_quadri_HR.png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ldNum" idx="16"/>
          </p:nvPr>
        </p:nvSpPr>
        <p:spPr>
          <a:xfrm>
            <a:off x="6552720" y="6245280"/>
            <a:ext cx="2133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740F-B4FC-417D-AB42-711D7DB659A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60" name="Picture 13" descr="picture-cover"/>
          <p:cNvPicPr/>
          <p:nvPr/>
        </p:nvPicPr>
        <p:blipFill>
          <a:blip r:embed="rId2"/>
          <a:srcRect l="671" t="0" r="-176" b="2750"/>
          <a:stretch/>
        </p:blipFill>
        <p:spPr>
          <a:xfrm>
            <a:off x="3240" y="968400"/>
            <a:ext cx="4265640" cy="5894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LOGO CE-EN-quadri.eps"/>
          <p:cNvPicPr/>
          <p:nvPr/>
        </p:nvPicPr>
        <p:blipFill>
          <a:blip r:embed="rId3"/>
          <a:srcRect l="0" t="0" r="0" b="3504"/>
          <a:stretch/>
        </p:blipFill>
        <p:spPr>
          <a:xfrm>
            <a:off x="3968640" y="258840"/>
            <a:ext cx="1436760" cy="963360"/>
          </a:xfrm>
          <a:prstGeom prst="rect">
            <a:avLst/>
          </a:prstGeom>
          <a:ln w="0">
            <a:noFill/>
          </a:ln>
        </p:spPr>
      </p:pic>
      <p:sp>
        <p:nvSpPr>
          <p:cNvPr id="262" name="Line 15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C2A5-8241-476B-890D-2260C06DBEC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04" name="Picture 6" descr="LOGO CE-EN-quadri.eps"/>
          <p:cNvPicPr/>
          <p:nvPr/>
        </p:nvPicPr>
        <p:blipFill>
          <a:blip r:embed="rId2"/>
          <a:srcRect l="0" t="0" r="0" b="3504"/>
          <a:stretch/>
        </p:blipFill>
        <p:spPr>
          <a:xfrm>
            <a:off x="3968640" y="258840"/>
            <a:ext cx="1436760" cy="963360"/>
          </a:xfrm>
          <a:prstGeom prst="rect">
            <a:avLst/>
          </a:prstGeom>
          <a:ln w="0">
            <a:noFill/>
          </a:ln>
        </p:spPr>
      </p:pic>
      <p:sp>
        <p:nvSpPr>
          <p:cNvPr id="305" name="Line 15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nergy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07" name="Picture 2" descr="E:\201205\12050087.jpg"/>
          <p:cNvPicPr/>
          <p:nvPr/>
        </p:nvPicPr>
        <p:blipFill>
          <a:blip r:embed="rId3"/>
          <a:stretch/>
        </p:blipFill>
        <p:spPr>
          <a:xfrm>
            <a:off x="0" y="981000"/>
            <a:ext cx="3429000" cy="60897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EE81-18D6-47FF-8C3D-CE871D3F7BF5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ENER-NC-PRIORITIES@ec.europa.eu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9"/>
          <p:cNvSpPr/>
          <p:nvPr/>
        </p:nvSpPr>
        <p:spPr>
          <a:xfrm>
            <a:off x="316080" y="1339920"/>
            <a:ext cx="871200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Electricity Network Codes and Guideline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Update for Florence Forum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04.06.15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AF55-4A1A-481A-9649-00AA324A8C8A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1"/>
          <p:cNvSpPr/>
          <p:nvPr/>
        </p:nvSpPr>
        <p:spPr>
          <a:xfrm>
            <a:off x="6553080" y="6245280"/>
            <a:ext cx="2133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FB18-457C-4331-9CE1-5A92C25CE1E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115920" y="1230480"/>
            <a:ext cx="4960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f5494"/>
                </a:solidFill>
                <a:latin typeface="Verdana"/>
              </a:rPr>
              <a:t>A reminder of process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Content Placeholder 2"/>
          <p:cNvSpPr/>
          <p:nvPr/>
        </p:nvSpPr>
        <p:spPr>
          <a:xfrm>
            <a:off x="299880" y="1469880"/>
            <a:ext cx="8291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93600" y="1892160"/>
            <a:ext cx="8712360" cy="44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1"/>
          <p:cNvSpPr/>
          <p:nvPr/>
        </p:nvSpPr>
        <p:spPr>
          <a:xfrm>
            <a:off x="6553080" y="6245280"/>
            <a:ext cx="2133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8162-80FA-460E-8E07-BC27C68E0BC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Content Placeholder 2"/>
          <p:cNvSpPr/>
          <p:nvPr/>
        </p:nvSpPr>
        <p:spPr>
          <a:xfrm>
            <a:off x="457200" y="1311120"/>
            <a:ext cx="82296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Network codes: adoption phase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What happens when COM receives a NC?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afe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afe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Formal/legal issues: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fe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Coherence: other NCs/GL, Reg. 714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fe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Compatibility with EU law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fe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Rules clear enough and enforceable?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afe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afe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Substance: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fe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Neutrality – balance of all interests?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fe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No excessive burden?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fe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Appropriate level of harmonization?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58760" y="2097000"/>
          <a:ext cx="8877240" cy="4356360"/>
        </p:xfrm>
        <a:graphic>
          <a:graphicData uri="http://schemas.openxmlformats.org/drawingml/2006/table">
            <a:tbl>
              <a:tblPr/>
              <a:tblGrid>
                <a:gridCol w="760320"/>
                <a:gridCol w="525600"/>
                <a:gridCol w="642960"/>
                <a:gridCol w="642960"/>
                <a:gridCol w="642960"/>
                <a:gridCol w="642960"/>
                <a:gridCol w="642960"/>
                <a:gridCol w="642600"/>
                <a:gridCol w="642960"/>
                <a:gridCol w="644760"/>
                <a:gridCol w="642960"/>
                <a:gridCol w="642960"/>
                <a:gridCol w="642960"/>
                <a:gridCol w="517320"/>
              </a:tblGrid>
              <a:tr h="328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C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CM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C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G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CC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VDC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, OPS, LFCR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Shape 22"/>
          <p:cNvSpPr/>
          <p:nvPr/>
        </p:nvSpPr>
        <p:spPr>
          <a:xfrm>
            <a:off x="879480" y="2590920"/>
            <a:ext cx="46836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Shape 23"/>
          <p:cNvSpPr/>
          <p:nvPr/>
        </p:nvSpPr>
        <p:spPr>
          <a:xfrm>
            <a:off x="4113360" y="1712880"/>
            <a:ext cx="922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Arial Black"/>
                <a:ea typeface="Arial Black"/>
              </a:rPr>
              <a:t>201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65" name="Group 27"/>
          <p:cNvGrpSpPr/>
          <p:nvPr/>
        </p:nvGrpSpPr>
        <p:grpSpPr>
          <a:xfrm>
            <a:off x="4705200" y="3809880"/>
            <a:ext cx="667080" cy="360360"/>
            <a:chOff x="4705200" y="3809880"/>
            <a:chExt cx="667080" cy="360360"/>
          </a:xfrm>
        </p:grpSpPr>
        <p:sp>
          <p:nvSpPr>
            <p:cNvPr id="366" name="Shape 24"/>
            <p:cNvSpPr/>
            <p:nvPr/>
          </p:nvSpPr>
          <p:spPr>
            <a:xfrm>
              <a:off x="4705200" y="3809880"/>
              <a:ext cx="560880" cy="3603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7" name="Shape 25"/>
            <p:cNvSpPr/>
            <p:nvPr/>
          </p:nvSpPr>
          <p:spPr>
            <a:xfrm>
              <a:off x="4973760" y="3809880"/>
              <a:ext cx="318240" cy="360360"/>
            </a:xfrm>
            <a:custGeom>
              <a:avLst/>
              <a:gdLst>
                <a:gd name="textAreaLeft" fmla="*/ 15480 w 318240"/>
                <a:gd name="textAreaRight" fmla="*/ 302760 w 318240"/>
                <a:gd name="textAreaTop" fmla="*/ 15480 h 360360"/>
                <a:gd name="textAreaBottom" fmla="*/ 344880 h 360360"/>
              </a:gdLst>
              <a:ahLst/>
              <a:rect l="textAreaLeft" t="textAreaTop" r="textAreaRight" b="textAreaBottom"/>
              <a:pathLst>
                <a:path w="21600" h="24456">
                  <a:moveTo>
                    <a:pt x="3600" y="0"/>
                  </a:moveTo>
                  <a:arcTo wR="3600" hR="3600" stAng="16200000" swAng="-5400000"/>
                  <a:lnTo>
                    <a:pt x="0" y="20856"/>
                  </a:lnTo>
                  <a:arcTo wR="3600" hR="3600" stAng="10800000" swAng="-5400000"/>
                  <a:lnTo>
                    <a:pt x="18000" y="24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1c39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8" name="Shape 26"/>
            <p:cNvSpPr/>
            <p:nvPr/>
          </p:nvSpPr>
          <p:spPr>
            <a:xfrm>
              <a:off x="4745880" y="3893760"/>
              <a:ext cx="62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f5494"/>
                  </a:solidFill>
                  <a:latin typeface="Arial Black"/>
                  <a:ea typeface="Arial Black"/>
                </a:rPr>
                <a:t>VOTING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69" name="Group 31"/>
          <p:cNvGrpSpPr/>
          <p:nvPr/>
        </p:nvGrpSpPr>
        <p:grpSpPr>
          <a:xfrm>
            <a:off x="5372280" y="4438800"/>
            <a:ext cx="599760" cy="358560"/>
            <a:chOff x="5372280" y="4438800"/>
            <a:chExt cx="599760" cy="358560"/>
          </a:xfrm>
        </p:grpSpPr>
        <p:sp>
          <p:nvSpPr>
            <p:cNvPr id="370" name="Shape 28"/>
            <p:cNvSpPr/>
            <p:nvPr/>
          </p:nvSpPr>
          <p:spPr>
            <a:xfrm>
              <a:off x="5372280" y="4438800"/>
              <a:ext cx="505080" cy="358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1" name="Shape 29"/>
            <p:cNvSpPr/>
            <p:nvPr/>
          </p:nvSpPr>
          <p:spPr>
            <a:xfrm>
              <a:off x="5653800" y="4438800"/>
              <a:ext cx="258480" cy="358560"/>
            </a:xfrm>
            <a:custGeom>
              <a:avLst/>
              <a:gdLst>
                <a:gd name="textAreaLeft" fmla="*/ 12600 w 258480"/>
                <a:gd name="textAreaRight" fmla="*/ 245880 w 258480"/>
                <a:gd name="textAreaTop" fmla="*/ 12600 h 358560"/>
                <a:gd name="textAreaBottom" fmla="*/ 345960 h 358560"/>
              </a:gdLst>
              <a:ahLst/>
              <a:rect l="textAreaLeft" t="textAreaTop" r="textAreaRight" b="textAreaBottom"/>
              <a:pathLst>
                <a:path w="21600" h="29952">
                  <a:moveTo>
                    <a:pt x="3600" y="0"/>
                  </a:moveTo>
                  <a:arcTo wR="3600" hR="3600" stAng="16200000" swAng="-5400000"/>
                  <a:lnTo>
                    <a:pt x="0" y="26352"/>
                  </a:lnTo>
                  <a:arcTo wR="3600" hR="3600" stAng="10800000" swAng="-5400000"/>
                  <a:lnTo>
                    <a:pt x="18000" y="299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1c39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2" name="Shape 30"/>
            <p:cNvSpPr/>
            <p:nvPr/>
          </p:nvSpPr>
          <p:spPr>
            <a:xfrm>
              <a:off x="5397120" y="4584240"/>
              <a:ext cx="574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f5494"/>
                  </a:solidFill>
                  <a:latin typeface="Arial Black"/>
                  <a:ea typeface="Arial Black"/>
                </a:rPr>
                <a:t>VOTING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73" name="Group 35"/>
          <p:cNvGrpSpPr/>
          <p:nvPr/>
        </p:nvGrpSpPr>
        <p:grpSpPr>
          <a:xfrm>
            <a:off x="8102520" y="5972040"/>
            <a:ext cx="952560" cy="358920"/>
            <a:chOff x="8102520" y="5972040"/>
            <a:chExt cx="952560" cy="358920"/>
          </a:xfrm>
        </p:grpSpPr>
        <p:sp>
          <p:nvSpPr>
            <p:cNvPr id="374" name="Shape 32"/>
            <p:cNvSpPr/>
            <p:nvPr/>
          </p:nvSpPr>
          <p:spPr>
            <a:xfrm>
              <a:off x="8102520" y="5972040"/>
              <a:ext cx="952560" cy="3589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5" name="Shape 33"/>
            <p:cNvSpPr/>
            <p:nvPr/>
          </p:nvSpPr>
          <p:spPr>
            <a:xfrm>
              <a:off x="8508960" y="5972040"/>
              <a:ext cx="546120" cy="35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1c39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6" name="Shape 34"/>
            <p:cNvSpPr/>
            <p:nvPr/>
          </p:nvSpPr>
          <p:spPr>
            <a:xfrm>
              <a:off x="8164440" y="6069600"/>
              <a:ext cx="719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f5494"/>
                  </a:solidFill>
                  <a:latin typeface="Arial Black"/>
                  <a:ea typeface="Arial Black"/>
                </a:rPr>
                <a:t>VOTING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77" name="Shape 36"/>
          <p:cNvSpPr/>
          <p:nvPr/>
        </p:nvSpPr>
        <p:spPr>
          <a:xfrm>
            <a:off x="858960" y="2697120"/>
            <a:ext cx="92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VOTING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Shape 37"/>
          <p:cNvSpPr/>
          <p:nvPr/>
        </p:nvSpPr>
        <p:spPr>
          <a:xfrm>
            <a:off x="1488960" y="5986440"/>
            <a:ext cx="392292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Shape 38"/>
          <p:cNvSpPr/>
          <p:nvPr/>
        </p:nvSpPr>
        <p:spPr>
          <a:xfrm>
            <a:off x="1655640" y="6097680"/>
            <a:ext cx="2637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Redrafting and Combining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Shape 39"/>
          <p:cNvSpPr/>
          <p:nvPr/>
        </p:nvSpPr>
        <p:spPr>
          <a:xfrm>
            <a:off x="1487520" y="4441680"/>
            <a:ext cx="236376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Shape 40"/>
          <p:cNvSpPr/>
          <p:nvPr/>
        </p:nvSpPr>
        <p:spPr>
          <a:xfrm>
            <a:off x="1554120" y="4560840"/>
            <a:ext cx="115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Update Text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Shape 41"/>
          <p:cNvSpPr/>
          <p:nvPr/>
        </p:nvSpPr>
        <p:spPr>
          <a:xfrm>
            <a:off x="2103480" y="3824280"/>
            <a:ext cx="2346120" cy="360360"/>
          </a:xfrm>
          <a:prstGeom prst="roundRect">
            <a:avLst>
              <a:gd name="adj" fmla="val 15565"/>
            </a:avLst>
          </a:prstGeom>
          <a:gradFill rotWithShape="0">
            <a:gsLst>
              <a:gs pos="0">
                <a:srgbClr val="d1c39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Shape 42"/>
          <p:cNvSpPr/>
          <p:nvPr/>
        </p:nvSpPr>
        <p:spPr>
          <a:xfrm>
            <a:off x="2125800" y="3914640"/>
            <a:ext cx="207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Committee and Translation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Shape 43"/>
          <p:cNvSpPr/>
          <p:nvPr/>
        </p:nvSpPr>
        <p:spPr>
          <a:xfrm>
            <a:off x="4002120" y="4438800"/>
            <a:ext cx="129060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Shape 44"/>
          <p:cNvSpPr/>
          <p:nvPr/>
        </p:nvSpPr>
        <p:spPr>
          <a:xfrm>
            <a:off x="6737400" y="5216400"/>
            <a:ext cx="46836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Shape 45"/>
          <p:cNvSpPr/>
          <p:nvPr/>
        </p:nvSpPr>
        <p:spPr>
          <a:xfrm>
            <a:off x="4008600" y="5246640"/>
            <a:ext cx="234144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Shape 46"/>
          <p:cNvSpPr/>
          <p:nvPr/>
        </p:nvSpPr>
        <p:spPr>
          <a:xfrm>
            <a:off x="4710240" y="3193920"/>
            <a:ext cx="226044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Shape 47"/>
          <p:cNvSpPr/>
          <p:nvPr/>
        </p:nvSpPr>
        <p:spPr>
          <a:xfrm>
            <a:off x="1500120" y="3205080"/>
            <a:ext cx="29494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9" name="Shape 48"/>
          <p:cNvSpPr/>
          <p:nvPr/>
        </p:nvSpPr>
        <p:spPr>
          <a:xfrm>
            <a:off x="1533600" y="3313080"/>
            <a:ext cx="920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Update Text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Shape 49"/>
          <p:cNvSpPr/>
          <p:nvPr/>
        </p:nvSpPr>
        <p:spPr>
          <a:xfrm>
            <a:off x="1498680" y="5229360"/>
            <a:ext cx="235260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Shape 50"/>
          <p:cNvSpPr/>
          <p:nvPr/>
        </p:nvSpPr>
        <p:spPr>
          <a:xfrm>
            <a:off x="1536840" y="5303880"/>
            <a:ext cx="2246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Update Text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Shape 51"/>
          <p:cNvSpPr/>
          <p:nvPr/>
        </p:nvSpPr>
        <p:spPr>
          <a:xfrm>
            <a:off x="4794120" y="3274920"/>
            <a:ext cx="20336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Committee and Translation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Shape 52"/>
          <p:cNvSpPr/>
          <p:nvPr/>
        </p:nvSpPr>
        <p:spPr>
          <a:xfrm>
            <a:off x="4008600" y="4473720"/>
            <a:ext cx="18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Committee and </a:t>
            </a:r>
            <a:br>
              <a:rPr sz="900"/>
            </a:b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Translation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Shape 53"/>
          <p:cNvSpPr/>
          <p:nvPr/>
        </p:nvSpPr>
        <p:spPr>
          <a:xfrm>
            <a:off x="6737400" y="5334120"/>
            <a:ext cx="92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VOTING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Shape 54"/>
          <p:cNvSpPr/>
          <p:nvPr/>
        </p:nvSpPr>
        <p:spPr>
          <a:xfrm>
            <a:off x="7093080" y="3208320"/>
            <a:ext cx="6490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Shape 55"/>
          <p:cNvSpPr/>
          <p:nvPr/>
        </p:nvSpPr>
        <p:spPr>
          <a:xfrm>
            <a:off x="7240680" y="3313080"/>
            <a:ext cx="92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VOTING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Shape 56"/>
          <p:cNvSpPr/>
          <p:nvPr/>
        </p:nvSpPr>
        <p:spPr>
          <a:xfrm>
            <a:off x="4113360" y="5332320"/>
            <a:ext cx="189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Committee and Translation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Shape 57"/>
          <p:cNvSpPr/>
          <p:nvPr/>
        </p:nvSpPr>
        <p:spPr>
          <a:xfrm>
            <a:off x="5532480" y="5986440"/>
            <a:ext cx="250200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Shape 58"/>
          <p:cNvSpPr/>
          <p:nvPr/>
        </p:nvSpPr>
        <p:spPr>
          <a:xfrm>
            <a:off x="5645160" y="6073920"/>
            <a:ext cx="189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Committee and Translation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Shape 47"/>
          <p:cNvSpPr/>
          <p:nvPr/>
        </p:nvSpPr>
        <p:spPr>
          <a:xfrm>
            <a:off x="2486160" y="2585880"/>
            <a:ext cx="29494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Shape 48"/>
          <p:cNvSpPr/>
          <p:nvPr/>
        </p:nvSpPr>
        <p:spPr>
          <a:xfrm>
            <a:off x="2771640" y="2689200"/>
            <a:ext cx="920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Scrutiny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Shape 54"/>
          <p:cNvSpPr/>
          <p:nvPr/>
        </p:nvSpPr>
        <p:spPr>
          <a:xfrm>
            <a:off x="5661000" y="2571840"/>
            <a:ext cx="468360" cy="36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Shape 55"/>
          <p:cNvSpPr/>
          <p:nvPr/>
        </p:nvSpPr>
        <p:spPr>
          <a:xfrm>
            <a:off x="5684760" y="2629080"/>
            <a:ext cx="924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f5494"/>
                </a:solidFill>
                <a:latin typeface="Arial Black"/>
                <a:ea typeface="Arial Black"/>
              </a:rPr>
              <a:t>Entry into Force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Rectangle 1"/>
          <p:cNvSpPr/>
          <p:nvPr/>
        </p:nvSpPr>
        <p:spPr>
          <a:xfrm>
            <a:off x="115920" y="123048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f5494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245280"/>
            <a:ext cx="2133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A8A3-D237-46CE-B3CC-7B6E3862EA5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ACM Guidelin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400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n scrutiny phase – with the Council and Parliament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400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ce complete (1 July), to be formally adopted by the Commiss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400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Entry into force 20 days from publication in the Official Journal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400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rward Capacity Allocation Guidelin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400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ormally recommended for adoption by ACER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400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Working on text – discussing with ENTSO-E and ACER – a number of issues to resolve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400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Expect to start formal comitology early autum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400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alancing Guidelin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400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urrently being considered by ACER following redraft by ENTSO-E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400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mportant link with Market Design work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649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 algn="just">
              <a:spcBef>
                <a:spcPts val="649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4274-912E-4D03-BBA5-989750D396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quirements for Generato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daptations mostly to address Member State concerns raised in Cross-Border Committee. Expect to present it to Member States to vote on by end of the month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201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mand Connec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larifying text following comments from Member States in the Cross-border committee. Given the depth of comments, decision taken to reverse order and put HVDC to the Cross-Border Committee first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201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igh Voltage Direct Curr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ormally recommended for adoptions by ACER and presented to Cross-Border Committee for first time in April. Expected vote by end-July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System Operation Guidelin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mbining OS, OPS and LFCR into one guideline given the synergies between them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TSO-E, ACER and Commission all currently working on text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mergency and Restoration – awaiting recommendation from ACER. Not currently considering combining into the System Operation Guideline and do not expect a vote this year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EA52-1D5A-4E8C-B93F-65CD82FAA0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Annual Priority List 2016 - consultation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3 May 2015 to 10 August 2015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y points: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57200" algn="just">
              <a:spcBef>
                <a:spcPts val="349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Network Codes and Guidelines an important action to be taken in order to fully integrate the IEM – remain a priority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57200" algn="just">
              <a:spcBef>
                <a:spcPts val="349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 2016 – to continue formal adoption phase (after vote in 2015) of DCC and HVDC, System Operation, and FCA.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57200" algn="just">
              <a:spcBef>
                <a:spcPts val="349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 2016 – to finalise codes/guidelines and start adoption phase of Balancing and E&amp;R.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e52e87"/>
                </a:solidFill>
                <a:uFillTx/>
                <a:latin typeface="Verdana"/>
                <a:hlinkClick r:id="rId1"/>
              </a:rPr>
              <a:t>ENER-NC-PRIORITIES@ec.europa.eu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009ed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EA66-3ED5-4026-AADA-9403760022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79280" y="171144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AFD2-B43A-4CA1-971C-ECEBDC9E2E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Jean-Claude.SCHWARTZ@ec.europa.eu</dc:creator>
  <dc:description/>
  <dc:language>en-US</dc:language>
  <cp:lastModifiedBy>B2</cp:lastModifiedBy>
  <cp:lastPrinted>2015-05-20T09:02:06Z</cp:lastPrinted>
  <dcterms:modified xsi:type="dcterms:W3CDTF">2015-05-28T15:22:03Z</dcterms:modified>
  <cp:revision>574</cp:revision>
  <dc:subject/>
  <dc:title>Slide 1</dc:title>
</cp:coreProperties>
</file>